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45934-941C-4199-A0BD-5DA48FFFCE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8D725-062B-40AA-863B-1CB68A511C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B30B4-99E6-4EE2-B07C-3412CE4FBE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DE17-5FB5-4684-B1CB-8068D9A47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502AF5-4F9B-44D7-8E83-843AD6F128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B604-A8FB-44AA-BDDF-E2B1929F44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F2E75-6CA4-4E29-BF3C-D7F599CC71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9B25D-6683-4F8B-A2EC-32D6F6F2E0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ABB0-577A-4380-804A-A11875CE3C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B4DF3F-05BF-4B4E-9B14-BF90B2D68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49BC1-A039-4AE5-AA41-74AC48D1B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3128E-EB93-469D-A546-AA0CC8D0A4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17E2A8-431A-4298-9F54-02D02051CA0C}" type="slidenum">
              <a:rPr b="0" lang="en-GB" sz="1200" spc="-1" strike="noStrike">
                <a:solidFill>
                  <a:srgbClr val="ffffff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upload.wikimedia.org/wikipedia/commons/c/cc/Pore_schematic.svg" TargetMode="External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7200" spc="-1" strike="noStrike">
                <a:solidFill>
                  <a:srgbClr val="ffffff"/>
                </a:solidFill>
                <a:latin typeface="Calibri"/>
              </a:rPr>
              <a:t>NON-VIRAL GENE THERAPY</a:t>
            </a:r>
            <a:endParaRPr b="0" lang="en-US" sz="72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200" spc="-1" strike="noStrike">
                <a:solidFill>
                  <a:srgbClr val="ffffff"/>
                </a:solidFill>
                <a:latin typeface="Calibri"/>
              </a:rPr>
              <a:t>Amanda Aryee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Gene Therap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4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ene therapy is the process of introducing foreign DNA into host cells.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Gene therapy has the potential to bring about tremendous changes in treatment of various diseases and disord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ffffff"/>
                </a:solidFill>
                <a:latin typeface="Calibri"/>
              </a:rPr>
              <a:t>The therapy relies on gene replacement as the solution to treat the disorders. </a:t>
            </a: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Histor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6" name="Content Placeholder 7" descr=""/>
          <p:cNvPicPr/>
          <p:nvPr/>
        </p:nvPicPr>
        <p:blipFill>
          <a:blip r:embed="rId1"/>
          <a:stretch/>
        </p:blipFill>
        <p:spPr>
          <a:xfrm>
            <a:off x="0" y="0"/>
            <a:ext cx="4863960" cy="6315120"/>
          </a:xfrm>
          <a:prstGeom prst="rect">
            <a:avLst/>
          </a:prstGeom>
          <a:ln w="0">
            <a:noFill/>
          </a:ln>
        </p:spPr>
      </p:pic>
      <p:sp>
        <p:nvSpPr>
          <p:cNvPr id="47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53 Watson and Crick discovered DNA model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The concepts of chromosomes, genes, etc. developed thereafter.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Calibri"/>
              </a:rPr>
              <a:t>1990’ the first person was treated. White blood cells were extracted from the body. 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48" name="Picture 2" descr="http://questgarden.com/82/67/5/100302084057/images/faq_questionmark.jpg"/>
          <p:cNvPicPr/>
          <p:nvPr/>
        </p:nvPicPr>
        <p:blipFill>
          <a:blip r:embed="rId2"/>
          <a:stretch/>
        </p:blipFill>
        <p:spPr>
          <a:xfrm>
            <a:off x="4067280" y="2781360"/>
            <a:ext cx="649080" cy="2376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Methods of Gene Therapy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VIRAL GENE THERAP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56840" y="2174760"/>
            <a:ext cx="40402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Virus mediated gene delivery utilizes ability of a virus to inject its DNA inside a host cell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A gene that is intended for delivery is packaged into a viral particle.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ffffff"/>
                </a:solidFill>
                <a:latin typeface="Calibri"/>
              </a:rPr>
              <a:t>NON-VIRAL GENE THERAPY</a:t>
            </a: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3" name=""/>
          <p:cNvSpPr txBox="1"/>
          <p:nvPr/>
        </p:nvSpPr>
        <p:spPr>
          <a:xfrm>
            <a:off x="4643280" y="2060640"/>
            <a:ext cx="4104000" cy="10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Micro-injec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Gene gu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Impalefec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Hydrostatic pressure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Continuous infus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Sonication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Chemical e.g. lipofection. 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5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300" spc="-1" strike="noStrike">
                <a:solidFill>
                  <a:srgbClr val="ffffff"/>
                </a:solidFill>
                <a:latin typeface="Calibri"/>
              </a:rPr>
              <a:t>It can also include the use of polymeric gene carriers (polyplexes)</a:t>
            </a:r>
            <a:endParaRPr b="0" lang="en-US" sz="23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250920" y="1628640"/>
            <a:ext cx="813744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 significant increase in the electrical conductivity and permeability of the cell plasma membrane caused by an externally applied electrical field (</a:t>
            </a:r>
            <a:r>
              <a:rPr b="0" lang="en-GB" sz="2800" spc="-1" strike="noStrike">
                <a:solidFill>
                  <a:srgbClr val="ffffff"/>
                </a:solidFill>
                <a:latin typeface="Calibri"/>
              </a:rPr>
              <a:t>300-400 mV for &lt; 1 ms membrane span).</a:t>
            </a:r>
            <a:endParaRPr b="0" lang="en-US" sz="28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It is used primarily to help get genes and drugs into cells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cts on the cell membrane, leaving collagen fibres and other vascular tissue structures intact. 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900" spc="-1" strike="noStrike">
                <a:solidFill>
                  <a:srgbClr val="ffffff"/>
                </a:solidFill>
                <a:latin typeface="Calibri"/>
              </a:rPr>
              <a:t>Allows healthy cells to re-grow far more quickly.</a:t>
            </a: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  <a:p>
            <a:pPr marL="343080" indent="-343080">
              <a:spcBef>
                <a:spcPts val="726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ELECTROPORAT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7" name="Picture 2" descr=""/>
          <p:cNvPicPr/>
          <p:nvPr/>
        </p:nvPicPr>
        <p:blipFill>
          <a:blip r:embed="rId1"/>
          <a:stretch/>
        </p:blipFill>
        <p:spPr>
          <a:xfrm>
            <a:off x="826920" y="4149720"/>
            <a:ext cx="2318040" cy="2003400"/>
          </a:xfrm>
          <a:prstGeom prst="rect">
            <a:avLst/>
          </a:prstGeom>
          <a:ln w="0">
            <a:noFill/>
          </a:ln>
        </p:spPr>
      </p:pic>
      <p:sp>
        <p:nvSpPr>
          <p:cNvPr id="58" name=""/>
          <p:cNvSpPr txBox="1"/>
          <p:nvPr/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Calibri"/>
            </a:endParaRPr>
          </a:p>
        </p:txBody>
      </p:sp>
      <p:pic>
        <p:nvPicPr>
          <p:cNvPr id="59" name="Picture 6" descr="File:Pore schematic.svg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755640" y="1413000"/>
            <a:ext cx="2505240" cy="2332080"/>
          </a:xfrm>
          <a:prstGeom prst="rect">
            <a:avLst/>
          </a:prstGeom>
          <a:ln w="0">
            <a:noFill/>
          </a:ln>
        </p:spPr>
      </p:pic>
      <p:sp>
        <p:nvSpPr>
          <p:cNvPr id="60" name="Rectangle 7"/>
          <p:cNvSpPr/>
          <p:nvPr/>
        </p:nvSpPr>
        <p:spPr>
          <a:xfrm>
            <a:off x="4643280" y="1773360"/>
            <a:ext cx="40690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Schematic showing the theoretical arrangement of lipids in a hydrophobic pore (top) and a hydrophilic pore (bottom)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8"/>
          <p:cNvSpPr/>
          <p:nvPr/>
        </p:nvSpPr>
        <p:spPr>
          <a:xfrm>
            <a:off x="4643280" y="4581360"/>
            <a:ext cx="3438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Calibri"/>
              </a:rPr>
              <a:t>An electrode used for irreversible electroporation, which could soon be used to treat tumors in humans. </a:t>
            </a:r>
            <a:r>
              <a:rPr b="0" i="1" lang="en-GB" sz="1600" spc="-1" strike="noStrike">
                <a:solidFill>
                  <a:srgbClr val="ffffff"/>
                </a:solidFill>
                <a:latin typeface="Calibri"/>
              </a:rPr>
              <a:t>(Image courtesy of Oncobionic Inc.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ffffff"/>
                </a:solidFill>
                <a:latin typeface="Calibri"/>
              </a:rPr>
              <a:t>SUMMARY AND CONCLUSION</a:t>
            </a:r>
            <a:endParaRPr b="0" lang="en-US" sz="44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100" spc="-1" strike="noStrike">
                <a:solidFill>
                  <a:srgbClr val="ffffff"/>
                </a:solidFill>
                <a:latin typeface="Calibri"/>
              </a:rPr>
              <a:t>   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Advantages of non- viral gene therapy include: 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Biocompatibility (Low toxity and non-immunogenicity)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Efficient nucleic acid delivery and manufacture in commercially acceptable form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   </a:t>
            </a:r>
            <a:r>
              <a:rPr b="0" lang="en-GB" sz="3000" spc="-1" strike="noStrike">
                <a:solidFill>
                  <a:srgbClr val="ffffff"/>
                </a:solidFill>
                <a:latin typeface="Calibri"/>
              </a:rPr>
              <a:t>There have been significant improvements made over  the past few years that need to be integrated into current systems to exploit their combined attributes.</a:t>
            </a: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  <a:p>
            <a:pPr marL="312120" indent="-312120">
              <a:spcBef>
                <a:spcPts val="75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8T18:05:07Z</dcterms:created>
  <dc:creator>Universities at Medway</dc:creator>
  <dc:description/>
  <dc:language>en-US</dc:language>
  <cp:lastModifiedBy>Universities at Medway</cp:lastModifiedBy>
  <dcterms:modified xsi:type="dcterms:W3CDTF">2010-10-20T07:53:19Z</dcterms:modified>
  <cp:revision>27</cp:revision>
  <dc:subject/>
  <dc:title>NON-VIRAL GENE THERAPY</dc:title>
</cp:coreProperties>
</file>